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EC6-DEAD-4737-8445-DA6448CC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0D0-9A13-4C58-B3DD-0CFF60E0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A6E-3F18-475B-A3AE-FBCFE6B2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D66-9714-4E6B-97F0-3B8A861A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CE6-9746-48BE-B78B-1884A72A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58A-B907-4EFB-BC5A-CA2998A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014-F527-4E03-9273-B42D984D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839-8F06-4478-B2B6-6D7B6702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192-2580-4E00-AAF9-84FAE253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769-C9C6-4FF7-A072-8467EE1F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F99-811D-40DE-B0D2-EEF4B310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66F-B9E5-4518-87FC-CD31CCC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0D5B-824E-4B7C-AA04-F48AC1740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682640"/>
            <a:ext cx="4570200" cy="457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682640"/>
            <a:ext cx="457200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684360" y="1682640"/>
            <a:ext cx="457200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13120" y="1670040"/>
            <a:ext cx="3243240" cy="3249720"/>
          </a:xfrm>
          <a:custGeom>
            <a:avLst/>
            <a:gdLst/>
            <a:ahLst/>
            <a:rect l="l" t="t" r="r" b="b"/>
            <a:pathLst>
              <a:path w="2043" h="2047">
                <a:moveTo>
                  <a:pt x="0" y="0"/>
                </a:moveTo>
                <a:cubicBezTo>
                  <a:pt x="3" y="47"/>
                  <a:pt x="6" y="181"/>
                  <a:pt x="23" y="285"/>
                </a:cubicBezTo>
                <a:cubicBezTo>
                  <a:pt x="40" y="389"/>
                  <a:pt x="58" y="496"/>
                  <a:pt x="103" y="622"/>
                </a:cubicBezTo>
                <a:cubicBezTo>
                  <a:pt x="148" y="748"/>
                  <a:pt x="209" y="905"/>
                  <a:pt x="292" y="1043"/>
                </a:cubicBezTo>
                <a:cubicBezTo>
                  <a:pt x="375" y="1181"/>
                  <a:pt x="498" y="1337"/>
                  <a:pt x="603" y="1448"/>
                </a:cubicBezTo>
                <a:cubicBezTo>
                  <a:pt x="708" y="1559"/>
                  <a:pt x="797" y="1627"/>
                  <a:pt x="921" y="1706"/>
                </a:cubicBezTo>
                <a:cubicBezTo>
                  <a:pt x="1045" y="1785"/>
                  <a:pt x="1212" y="1873"/>
                  <a:pt x="1346" y="1925"/>
                </a:cubicBezTo>
                <a:cubicBezTo>
                  <a:pt x="1480" y="1977"/>
                  <a:pt x="1612" y="2000"/>
                  <a:pt x="1728" y="2020"/>
                </a:cubicBezTo>
                <a:cubicBezTo>
                  <a:pt x="1844" y="2040"/>
                  <a:pt x="1978" y="2042"/>
                  <a:pt x="2043" y="204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62760" y="1682640"/>
            <a:ext cx="3243240" cy="3249720"/>
          </a:xfrm>
          <a:custGeom>
            <a:avLst/>
            <a:gdLst/>
            <a:ahLst/>
            <a:rect l="l" t="t" r="r" b="b"/>
            <a:pathLst>
              <a:path w="2043" h="2047">
                <a:moveTo>
                  <a:pt x="0" y="0"/>
                </a:moveTo>
                <a:cubicBezTo>
                  <a:pt x="3" y="47"/>
                  <a:pt x="6" y="181"/>
                  <a:pt x="23" y="285"/>
                </a:cubicBezTo>
                <a:cubicBezTo>
                  <a:pt x="40" y="389"/>
                  <a:pt x="58" y="496"/>
                  <a:pt x="103" y="622"/>
                </a:cubicBezTo>
                <a:cubicBezTo>
                  <a:pt x="148" y="748"/>
                  <a:pt x="209" y="905"/>
                  <a:pt x="292" y="1043"/>
                </a:cubicBezTo>
                <a:cubicBezTo>
                  <a:pt x="375" y="1181"/>
                  <a:pt x="498" y="1337"/>
                  <a:pt x="603" y="1448"/>
                </a:cubicBezTo>
                <a:cubicBezTo>
                  <a:pt x="708" y="1559"/>
                  <a:pt x="797" y="1627"/>
                  <a:pt x="921" y="1706"/>
                </a:cubicBezTo>
                <a:cubicBezTo>
                  <a:pt x="1045" y="1785"/>
                  <a:pt x="1212" y="1873"/>
                  <a:pt x="1346" y="1925"/>
                </a:cubicBezTo>
                <a:cubicBezTo>
                  <a:pt x="1480" y="1977"/>
                  <a:pt x="1612" y="2000"/>
                  <a:pt x="1728" y="2020"/>
                </a:cubicBezTo>
                <a:cubicBezTo>
                  <a:pt x="1844" y="2040"/>
                  <a:pt x="1978" y="2042"/>
                  <a:pt x="2043" y="204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692640" y="3040200"/>
            <a:ext cx="3243240" cy="3249360"/>
          </a:xfrm>
          <a:custGeom>
            <a:avLst/>
            <a:gdLst/>
            <a:ahLst/>
            <a:rect l="l" t="t" r="r" b="b"/>
            <a:pathLst>
              <a:path w="2043" h="2047">
                <a:moveTo>
                  <a:pt x="0" y="0"/>
                </a:moveTo>
                <a:cubicBezTo>
                  <a:pt x="3" y="47"/>
                  <a:pt x="6" y="181"/>
                  <a:pt x="23" y="285"/>
                </a:cubicBezTo>
                <a:cubicBezTo>
                  <a:pt x="40" y="389"/>
                  <a:pt x="58" y="496"/>
                  <a:pt x="103" y="622"/>
                </a:cubicBezTo>
                <a:cubicBezTo>
                  <a:pt x="148" y="748"/>
                  <a:pt x="209" y="905"/>
                  <a:pt x="292" y="1043"/>
                </a:cubicBezTo>
                <a:cubicBezTo>
                  <a:pt x="375" y="1181"/>
                  <a:pt x="498" y="1337"/>
                  <a:pt x="603" y="1448"/>
                </a:cubicBezTo>
                <a:cubicBezTo>
                  <a:pt x="708" y="1559"/>
                  <a:pt x="797" y="1627"/>
                  <a:pt x="921" y="1706"/>
                </a:cubicBezTo>
                <a:cubicBezTo>
                  <a:pt x="1045" y="1785"/>
                  <a:pt x="1212" y="1873"/>
                  <a:pt x="1346" y="1925"/>
                </a:cubicBezTo>
                <a:cubicBezTo>
                  <a:pt x="1480" y="1977"/>
                  <a:pt x="1612" y="2000"/>
                  <a:pt x="1728" y="2020"/>
                </a:cubicBezTo>
                <a:cubicBezTo>
                  <a:pt x="1844" y="2040"/>
                  <a:pt x="1978" y="2042"/>
                  <a:pt x="2043" y="204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2037960" y="3004920"/>
            <a:ext cx="3243240" cy="3249720"/>
          </a:xfrm>
          <a:custGeom>
            <a:avLst/>
            <a:gdLst/>
            <a:ahLst/>
            <a:rect l="l" t="t" r="r" b="b"/>
            <a:pathLst>
              <a:path w="2043" h="2047">
                <a:moveTo>
                  <a:pt x="0" y="0"/>
                </a:moveTo>
                <a:cubicBezTo>
                  <a:pt x="3" y="47"/>
                  <a:pt x="6" y="181"/>
                  <a:pt x="23" y="285"/>
                </a:cubicBezTo>
                <a:cubicBezTo>
                  <a:pt x="40" y="389"/>
                  <a:pt x="58" y="496"/>
                  <a:pt x="103" y="622"/>
                </a:cubicBezTo>
                <a:cubicBezTo>
                  <a:pt x="148" y="748"/>
                  <a:pt x="209" y="905"/>
                  <a:pt x="292" y="1043"/>
                </a:cubicBezTo>
                <a:cubicBezTo>
                  <a:pt x="375" y="1181"/>
                  <a:pt x="498" y="1337"/>
                  <a:pt x="603" y="1448"/>
                </a:cubicBezTo>
                <a:cubicBezTo>
                  <a:pt x="708" y="1559"/>
                  <a:pt x="797" y="1627"/>
                  <a:pt x="921" y="1706"/>
                </a:cubicBezTo>
                <a:cubicBezTo>
                  <a:pt x="1045" y="1785"/>
                  <a:pt x="1212" y="1873"/>
                  <a:pt x="1346" y="1925"/>
                </a:cubicBezTo>
                <a:cubicBezTo>
                  <a:pt x="1480" y="1977"/>
                  <a:pt x="1612" y="2000"/>
                  <a:pt x="1728" y="2020"/>
                </a:cubicBezTo>
                <a:cubicBezTo>
                  <a:pt x="1844" y="2040"/>
                  <a:pt x="1978" y="2042"/>
                  <a:pt x="2043" y="204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1681200"/>
            <a:ext cx="1330200" cy="13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80760" y="1690560"/>
            <a:ext cx="1330200" cy="13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38400" y="4921200"/>
            <a:ext cx="1330200" cy="13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69600" y="4920840"/>
            <a:ext cx="1330200" cy="13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3400" y="6253200"/>
            <a:ext cx="19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54560" y="3020760"/>
            <a:ext cx="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30400" y="1681200"/>
            <a:ext cx="1874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302112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600" y="609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ke an Octagon in a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08520" y="1192320"/>
            <a:ext cx="34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1. Draw the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8520" y="222552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2. Draw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35520" y="3022560"/>
            <a:ext cx="340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3. Set the compass to ½ the diagonal and mark them from each co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35520" y="5468760"/>
            <a:ext cx="34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4. Join up the co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1690560"/>
            <a:ext cx="2273040" cy="2271960"/>
          </a:xfrm>
          <a:custGeom>
            <a:avLst/>
            <a:gdLst/>
            <a:ahLst/>
            <a:rect l="l" t="t" r="r" b="b"/>
            <a:pathLst>
              <a:path w="1432" h="1431">
                <a:moveTo>
                  <a:pt x="1432" y="1431"/>
                </a:moveTo>
                <a:lnTo>
                  <a:pt x="1432" y="384"/>
                </a:lnTo>
                <a:lnTo>
                  <a:pt x="0" y="0"/>
                </a:lnTo>
                <a:lnTo>
                  <a:pt x="1257" y="506"/>
                </a:lnTo>
                <a:lnTo>
                  <a:pt x="1432" y="1431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2978280" y="3976200"/>
            <a:ext cx="2273040" cy="2271960"/>
          </a:xfrm>
          <a:custGeom>
            <a:avLst/>
            <a:gdLst/>
            <a:ahLst/>
            <a:rect l="l" t="t" r="r" b="b"/>
            <a:pathLst>
              <a:path w="1432" h="1431">
                <a:moveTo>
                  <a:pt x="1432" y="1431"/>
                </a:moveTo>
                <a:lnTo>
                  <a:pt x="1432" y="384"/>
                </a:lnTo>
                <a:lnTo>
                  <a:pt x="0" y="0"/>
                </a:lnTo>
                <a:lnTo>
                  <a:pt x="1257" y="506"/>
                </a:lnTo>
                <a:lnTo>
                  <a:pt x="1432" y="1431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91200" y="3991320"/>
            <a:ext cx="2273400" cy="2271600"/>
          </a:xfrm>
          <a:custGeom>
            <a:avLst/>
            <a:gdLst/>
            <a:ahLst/>
            <a:rect l="l" t="t" r="r" b="b"/>
            <a:pathLst>
              <a:path w="1432" h="1431">
                <a:moveTo>
                  <a:pt x="1432" y="1431"/>
                </a:moveTo>
                <a:lnTo>
                  <a:pt x="1432" y="384"/>
                </a:lnTo>
                <a:lnTo>
                  <a:pt x="0" y="0"/>
                </a:lnTo>
                <a:lnTo>
                  <a:pt x="1257" y="506"/>
                </a:lnTo>
                <a:lnTo>
                  <a:pt x="1432" y="1431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 rot="16200000">
            <a:off x="2950200" y="1733040"/>
            <a:ext cx="2273400" cy="2271600"/>
          </a:xfrm>
          <a:custGeom>
            <a:avLst/>
            <a:gdLst/>
            <a:ahLst/>
            <a:rect l="l" t="t" r="r" b="b"/>
            <a:pathLst>
              <a:path w="1432" h="1431">
                <a:moveTo>
                  <a:pt x="1432" y="1431"/>
                </a:moveTo>
                <a:lnTo>
                  <a:pt x="1432" y="384"/>
                </a:lnTo>
                <a:lnTo>
                  <a:pt x="0" y="0"/>
                </a:lnTo>
                <a:lnTo>
                  <a:pt x="1257" y="506"/>
                </a:lnTo>
                <a:lnTo>
                  <a:pt x="1432" y="1431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04:46:58Z</dcterms:created>
  <dc:creator>GREG CHEETHAM</dc:creator>
  <dc:description/>
  <dc:language>en-US</dc:language>
  <cp:lastModifiedBy>GREG CHEETHAM</cp:lastModifiedBy>
  <dcterms:modified xsi:type="dcterms:W3CDTF">2007-09-01T06:54:44Z</dcterms:modified>
  <cp:revision>2</cp:revision>
  <dc:subject/>
  <dc:title>PowerPoint Presentation</dc:title>
</cp:coreProperties>
</file>